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C608A-2E88-4A86-8A51-9D28A4D07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3A778-591D-48FD-8B0E-BE80EFE07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FE7F8-2719-40D0-8C90-B92DEB22A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28C02-775F-483A-A375-80B4E275E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B9392-5EC3-4527-8740-4D763381B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C8717-DE8D-47BD-BA34-25AE33EBE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9813D-539A-4045-A20D-957051B1A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FAC33-EBB1-4337-B3E2-2789E93E4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2E157-45C1-4D3B-83EB-D840D888A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9A9B4-1481-41CE-A85C-5E22A5F57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85FD4-40A8-4048-8A57-7AE5D0316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76012-C555-4E85-A84F-506CC2CDC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6E199-3337-4D31-96C2-9FC935188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30606-56C4-4DEF-A522-E213E9754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143DD-108C-48EE-9357-77F59ACA2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A317E-5403-45DF-8421-07C75C437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B4B91-3159-4838-9AFB-CFC4EAC02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76BA7-FC84-44F1-8825-5267FC5C0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AA57B-B323-43DC-B758-54EB6FD23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0D029-2E3B-47B1-9AC9-45C266713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EA0E1-A26F-4986-8CBF-1C6A6C3CD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753E1-7E27-4640-AE03-5A18CA299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1278D-84BC-47EE-B510-673329CB0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B96CF-0053-498D-AF7C-9DEE0B939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D4D8F-2D6E-4D59-A647-CFE4924A13C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74B3E-B0FA-4BBB-809B-FCDC972D3D8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Transmis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veleng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occupied by one cyc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wo points of corresponding phase in two consecutive cyc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ing signal velocit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= v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 = 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= 3*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8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-1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peed of light in free spac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omain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usually made up of many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s are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shown (Fourier analysis) that any signal is made up of component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lot frequency domai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80880"/>
            <a:ext cx="82044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i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4331"/>
          <a:stretch/>
        </p:blipFill>
        <p:spPr>
          <a:xfrm>
            <a:off x="4114800" y="47520"/>
            <a:ext cx="4952880" cy="67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omain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5592"/>
          <a:stretch/>
        </p:blipFill>
        <p:spPr>
          <a:xfrm>
            <a:off x="3886200" y="200160"/>
            <a:ext cx="5114880" cy="64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ectrum &amp;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of frequencies contained i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olut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th of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jus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band of frequencies containing most of the ener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nent of zero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 with DC Compon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170"/>
          <a:stretch/>
        </p:blipFill>
        <p:spPr>
          <a:xfrm>
            <a:off x="2057400" y="1676520"/>
            <a:ext cx="49338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Rate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 transmission system has a limited band of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limits the data rate that can be car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and Digital Data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that convey mea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 or electromagnetic representation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of data by propagation and processing of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values within som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ound,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xt, integ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oustic Spectrum (Analo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7568"/>
          <a:stretch/>
        </p:blipFill>
        <p:spPr>
          <a:xfrm>
            <a:off x="762120" y="1655640"/>
            <a:ext cx="7467480" cy="50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wisted pair, optical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air, water, vacuu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ans by which data are propag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ly var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rious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re, fiber optic,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bandwidth 100Hz to 7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phone bandwidth 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bandwidth 4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DC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use digital signals for digital data and analog signals for analo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analog signal to carry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digital signal to carry analog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act Disc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55799"/>
          <a:stretch/>
        </p:blipFill>
        <p:spPr>
          <a:xfrm>
            <a:off x="457200" y="1838160"/>
            <a:ext cx="8153280" cy="44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47685" r="0" b="8262"/>
          <a:stretch/>
        </p:blipFill>
        <p:spPr>
          <a:xfrm>
            <a:off x="457200" y="1778040"/>
            <a:ext cx="815328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 transmitted without regard to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ed over dista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amplifiers to boos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amplifies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ed with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 endangered by noise, attenuation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ceives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cts bit patter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overco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ise is not ampl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17884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techn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 LSI/VLSI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distances over lower quality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pacity util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bandwidth links econom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degree of multiplexing easier with digital techniq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&amp; 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treat analog and digital data simi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Impair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eceived may differ from signal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- degradation of signal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- bit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 and attenuation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enu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trength falls off with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d signal streng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enough to be 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sufficiently higher than noise to be received withou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an increasing function of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ay Distor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velocity varies with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intermediate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-to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link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2 devices shar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than two devices shar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signals inserted between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m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rmal agitation of electr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formly 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te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that are the sum and difference of original frequencies sharing a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tal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 from one line is picked up by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ul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rregular pulses or spik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External electromagnetic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d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nnel Capac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data can be commun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cycles per second of Hert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ained by transmitter an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di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vi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direction, but only one way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police rad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directions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ph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, Spectrum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domain concep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arious in a smooth way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intains a constant level then changes to another constant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not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inuous &amp; Discrete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0534"/>
          <a:stretch/>
        </p:blipFill>
        <p:spPr>
          <a:xfrm>
            <a:off x="838080" y="1676520"/>
            <a:ext cx="7162920" cy="51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iodic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9662"/>
          <a:stretch/>
        </p:blipFill>
        <p:spPr>
          <a:xfrm>
            <a:off x="4324320" y="457200"/>
            <a:ext cx="481968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e 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Amplitude (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strength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(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change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rtz (Hz) or cycle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 = time for one repetition 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 = 1/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tive position i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ying Sine Wa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140"/>
          <a:stretch/>
        </p:blipFill>
        <p:spPr>
          <a:xfrm>
            <a:off x="1066680" y="1676520"/>
            <a:ext cx="67438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1:58Z</dcterms:modified>
  <cp:revision>35</cp:revision>
  <dc:subject/>
  <dc:title>William Stallings Data and Computer Communications</dc:title>
</cp:coreProperties>
</file>